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272-8406-49BF-A346-1648A580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72A-E191-4499-A80B-07EE083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F66-7D45-4025-8465-ABAF75F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D31-C636-4144-8E59-4BDD42B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CE76-EA63-4F6C-B25E-8B4A9FE0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7268-9B60-46E5-B01E-F2B3BB7A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5CD-5732-4F1A-8242-7F0ABEF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790D-777F-41C9-93BF-9F97B07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2EE6-4512-4D38-869C-ABD16868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B62E-E0AD-469B-8916-FF7C4DB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AF04-E62D-4838-A29E-F27F8F21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388-55AB-4B8A-82A3-18AC0C77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05CD-3F54-46C1-8B10-8436941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4E9-408E-412E-855D-67C8672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8BBB-B468-43B1-8B50-B896912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CBF-05C3-418E-956E-D9863250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2BD-AE4E-4910-92CD-FB4EDE4F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0E1-622E-4569-B4B6-CF2FFD12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21F-668C-4747-894C-BD1827AB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3FF-5DC1-4A85-B458-D93D8680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A26-D267-4426-BDB0-F4DBA8D2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06D-0793-4B2A-9175-2D0D263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E31-41B7-47E3-9891-264D011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FBA-EF61-4B20-8196-3078C7D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215-F7E0-4089-AC0C-BFCEF49387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84CD-3C42-4BB1-BDF0-B09E101D84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160020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066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Zar"/>
              </a:rPr>
              <a:t>بسم الله الرحمن الرحی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Zar"/>
              <a:ea typeface="Z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فرمان الهی برای مطلبی مهم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دوم تصريح فرمودند كه بايد فرمان مهمى درباره على عليه‏السلام ابلاغ كنم، و گرنه رسالت الهى را نرسانده‏ام و ترس از عذاب خدا دار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اعلان رسمی ولایت وامامت دوازده امام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ومين بخش، آن حضرت امامت دوازده امام بعد از خود را تا آخرين روز دنيا با عمومي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لايت آنان بر همه انسان‏ها، و در طول زمان‏ها و در همه مكان‏ها، و نفوذ كلماتشا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جميع امور اعلام فرمو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معرفی و بلند کردن </a:t>
            </a:r>
            <a:r>
              <a:rPr b="1" lang="ar-SA" sz="4400" spc="-1" strike="noStrike">
                <a:solidFill>
                  <a:srgbClr val="d9d9ff"/>
                </a:solidFill>
                <a:latin typeface="Arial Black"/>
              </a:rPr>
              <a:t>اميرالمؤمنين عليه‏السلام</a:t>
            </a: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 به دست </a:t>
            </a:r>
            <a:r>
              <a:rPr b="1" lang="ar-SA" sz="4400" spc="-1" strike="noStrike">
                <a:solidFill>
                  <a:srgbClr val="d9d9ff"/>
                </a:solidFill>
                <a:latin typeface="Arial Black"/>
              </a:rPr>
              <a:t>پيامبر صلى‏الله‏عليه‏و‏آله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چهارم خطبه، پيامبر صلى‏الله‏عليه‏و‏آله بازوان اميرالمؤمنين عليه‏السلام را گرفتند و آن حضرت را از جا بلند كردند و در اين حال فرمودند: «مَنْ كُنْتُ مَوْلاهُ فَهذا عَلِىٌّ مَوْلاهُ، اَللّهُمَّ والِ مَنْ والاهُ وَ عادِ مَنْ عاداهُ وَ انْصُرْ مَنْ نَصَرَهُ وَ اخْذُلْ مَنْ خَذَلَه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»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پس كمال دين را با ولايت ائمه عليهم‏السلام اعلام فرمو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تأکید بر توجه امت به مسئلئه امامت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پنجم، حضرت صريحا فرمودند: «هر كس از ولايت ائمه عليهم‏السلام سرباز زند اعمال نيكش سقوط مى‏كند و در جهنم خواهد بود». بعد از آن شمه‏اى از فضايل اميرالمؤمنين عليه‏السلام را متذكر ش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اشاره به کارشکنی های منافقی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مرحله ششم، پيامبر صلى‏الله‏عليه‏و‏آله با تلاوت آياتى از قرآن در رابطه با عذاب الهى و لعن دشمنان دين، فرمودند: «منظور از اين آيات عده‏اى از اصحاب من هستند كه مأمور به چشم پوشى از آنان هستم، ولى بدانند كه خداوند ما را بر معاندين و مخالفين و خائنين و مقصرين حجت قرار داده، و اغما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بت به آنان در دنيا مانع از عذاب آخرت نيست». سپس بيزارى خود را از گمراه كنندگان امت اعلام فرمودند و اشاره‏اى هم به «اصحاب صحيفه ملعونه» و غاصبين مقام امامت نمو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پیروان اهل بیت علیهم السلام ودشمنان ایشا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هفتم، حضرت تكيه سخن را بر اثراتِ ولايت اهل بيت عليهم‏السلام قرار داده فرمودند: «اصحاب صراط مستقيم در سوره حمد، شيعيان اهل‏بيت هستند». سپس آياتى درباره اهل بهشت را به پيروان آل محمد عليهم‏السلام ، و آياتى درباره اهل جهنم را به دشمنان آل محمد عليهم‏السلام تفسير فرمو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حضرت مهدی عجل الله فرج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هشتم مطالبى اساسى درباره حضرت بقية اللّه‏ الاعظم حجة بن الحسن المهدى ارواحنا فداه فرمودند، و آينده‏اى پر از عدل و داد به دست امام زمان عجل اللّه‏ فرجه را به جهانيان مژده 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مطرح کردن بیعت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نهم مردم را به بيعت با خود و سپس با على عليه‏السلام دعوت نمودند، و آن را از طرف خداوند و بيعت با حق تعالى دانست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حلال وحرام،واجبات و محرمات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دهمين بخش، پيامبر صلى‏الله‏عليه‏و‏آله درباره كيفيت بيان احكام الهى در آينده مسلمين فرمودند: چون بيان همه حلال‏ها و حرام‏ها توسط من امكان ندارد، با بيعتى كه درباره امامان عليهم‏السلام از شما مى‏گيرم حلال و حرام را تا روز قيامت بيان كرده‏ام، يعنى بيان ايشان بيان من است. بالاترين امر به معروف و نهى از منكر را نيز، تبليغ پيام غدير درباره اطاعت از امامان عليهم‏السلام و نهى از مخالفتشان دانست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بیعت گرفتن رسمی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آخرين مرحله خطابه، بيعتِ لسانى انجام شد و حضرت فرمودند: «خداوند دستور داده تا قبل از بيعت با دست، از زبان‏هاى شما اقرار بگير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»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پس مطلبى را كه خلاصه آن اطاعت از دوازده امام عليهم‏السلام و عهد و پيمان بر ثابت قدم بودن و بر رساندن پيام غدير به نسل‏هاى آينده و غايبان از غدير بود براى مردم گفتند، و مردم آن را تكرار كردند. كلمات نهايى پيامبر صلى‏الله‏عليه‏و‏آله دعا براى اقرار كنندگان و نفرين بر منكرين اوامرش بود، و با حمد و سپاس خداوند خطابه را به پايان رسان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دو اقدام عملى بر فراز منب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ول: بلند كردن و معرفى اميرالمؤمنين عليه‏الس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دوم: بيعت با قلبها و زبان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9d9ff"/>
                </a:solidFill>
                <a:uFillTx/>
                <a:latin typeface="Arial Black"/>
              </a:rPr>
              <a:t>اول: بلند كردن و معرفى اميرالمؤمنين عليه‏السلام</a:t>
            </a:r>
            <a:r>
              <a:rPr b="1" lang="en-US" sz="36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َنْ كُنْتُ مَوْلاهُ فَهذا عَلِىٌّ مَوْلاهُ، اَللّهُمَّ والِ مَنْ والاهُ وَ عاداهُ وَ انْصُرْ مَنْ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َصَرَهُوَ اخْذُلْ مَنْ خَذَلَه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ر كس كه من مولى و صاحب اختيار اويم اين على مولى و صاحب اختيار اوست. خدايا دوست بدار هر كس او را دوست بدارد، و دشمن بدار هر كس او را دشمن بدارد، و يارى كن هر كس او را يارى كند، و خوار كن هر كس او را خوار ك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دوم: بيعت با قلبها و زبانها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یعت از تمامی افرا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يعت مردا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و خيم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 لقب «اميرالمؤمنين» به آن حضرت سلام مى‏كردند، و اين مقام والا را تبريك و تهنيت مى‏گفتند. برنامه بيعت و تهنيت تا سه روز ادامه داشت و حضرت اين مدت را در غدير اقامت داشت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اولین افرا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بوبكر، عمر، عثمان، طلحه و زبير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اعتراض ابوبکر وعمر که می گویند:از جانب توست یا خد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ر بعد از بيعت اين كلمات را بر زبان مى‏راند: «افتخار برايت باد، گوارايت باد، اى پسر ابى‏طالب! خوشا به حالت اى ابا الحسن، اكنون مولاى من و مولاى هر مرد و زن مؤمنى شده‏ا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يعت زنا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ا قرار دادنِ دستِ خود در آ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یعت کر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ضرت صديقه طاهره فاطمه زهرا عليهاالسلام در غدير حضور داشتند، و كليه همسران پيامبر صلى‏الله‏عليه‏و‏آله نيز در آن مراسم حاضر بو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عمامه سحاب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اين مراسم، پيامبر صلى‏الله‏عليه‏و‏آله عمامه خود را كه «سحاب» نام داشت، به عنوان تاج افتخار بر سر اميرالمؤمنين عليه‏السلام گذاشتند و انتهاى عمامه را از پشت سر بر دوش آن حضرت قرار 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شع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سّان بن ثابت به مناسبت اين واقعه عظيم شعرى درباره اميرالمؤمنين عليه‏السلام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سرود که این سندتاریخی به یادگار مان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جبرئيل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تمام حجت ديگر اين بود كه مردى زيبا روى در كنار مردم مى‏گف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ه خدا قسم روزى مانند اين روز هرگز نديدم. چقدر كار پسر عمويش را محكم نمود! براى او پيمانى بست كه جز كافر به خدا و رسولش آن را بر هم نمى‏ز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ى بر كسى كه پيمان او را بشك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معجز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به هلاکت رسید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رث  فهرى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«خدايا! اگر آنچه محمد مى‏گويد حق و از جانب توست سنگى از آسمان بر ما ببار يا عذاب دردناكى بر ما بفر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»!!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مين كه سخن حارث تمام شد و به راه افتاد، خداوند سنگى از آسمان بر او فرستاد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مانجا او را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به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لاك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ت رسان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 اين معجزه، بار ديگر بر همگان مسلم شد ك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»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غدير» از منبع وحى سرچشمه گرفته و فرمان الهى است و منكرين آن مستحق عذاب‏ا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پايان مراسم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مراسم سه روزه غدی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«ايّام الولاية»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نتشار خبر در شهرهاکه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ه گوش همگان رسي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دين گونه خداوند حجتش را بر مردم تمام كر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آغاز سفر از مدينه تا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ابلاغ دو مسئله اساسی 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حج، ولايت و خلافت دوازده امام عليهم‏السلام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120000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نفر در مکه در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پنجم ذى الحجة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يرالمؤمنين عليه‏السلام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یم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00520" y="5851440"/>
            <a:ext cx="15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Vivaldi"/>
                <a:cs typeface="Andalus"/>
              </a:rPr>
              <a:t>عل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تمام حجت جهانى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طرح كردن غدير مساوى با برچيدن بساط غاصبينِ خلافت بود، و آنان هرگز اجازه چنين كارى را نمى‏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گذشته از تواترِ آن، از نظر رجال و درايت فوق العاده اس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مهم این است که هم اکنون پیام غدیر به ما رسیده اس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شياطين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بليس و رؤساى اصحاب او هنگام منصوب شدن اميرالمؤمنين عليه‏السلام در روز غدير حاضر بودن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سخن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بليس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پس از رحلت پیامبر به اصحابش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«كدام امت بعد از پيامبرشان گمراه نشدند؟! هرگز!! شما گمان مى‏كنيد من بر اينان سلطه و راهى ندارم؟! چگونه ديديد مرا هنگامى كه كارى كردم تا امر خدا و پيامبر را درباره اطاعت على بن ابى‏طالب كنار گذاردند ...»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منافقين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افقين با احساس نزديكى رحلت پيامبر صلى‏الله‏عليه‏و‏آله و آگاهى از تصميم حضرت براى تعيين رسمى جانشين خود، دست به اقداماتى اساسى زدند و صفوف خود را براى روزهاى بعد از وفات آن حضرت آماده‏تر كر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صحيفه ملعونه اول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گر محمد از دنيا رفت يا كشته شد نگذاريم خلافت و جانشينى او در اهل بيتش مستقر ش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توطئه گروه پنج نفر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عاذ بن جبل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ما مسئله را از جهت مهاجرين حل كنيد، من درباره انصار ترتيب امور را خواهم دا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تسلط بر دو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طايفه «اوس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«خزرج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توطئه قتل پيامبر صلى‏الله‏عليه‏و‏آل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م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د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له كوه «هَرْشى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قابله حذيفه و عمار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با منافقی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چهارده یاغی: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وبكر، عمر، عثمان، معاويه، عمروعاص، طلحه، سعد بن ابى‏وقاص، عبدالرحمن بن عوف، ابوعبيده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راح، ابوموسى اشعرى، ابوهريره، مغيرة بن شعبه، معاذ بن جبل، سالم مولى ابى‏حذيف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صحيفه ملعونه دوم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بوسفيان و پسر ابوجهل و خالد بن وليد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این گروه سی وچهار نف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اين جلسه اساسنامه نقشه‏هاى آينده را تنظيم كردند و همه افراد طومارى را امضا كردند؛ و آن را به ابوعبيده جراح سپردند تا به مكه ببرد و در كنار صحيفه اول در كعبه پنهان ك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نگرشى به اهداف خطب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خنرانى  به حالت قيام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رايط استثنايى گوينده و شنوندگان از نظر تقارن با حج و شدت گرما و مكان خاصى كه قبل از تقاطع جاده‏ها و متفرق شدن مردم در نظر گرفته شده بود، و اينكه مخاطبينِ غدير را جمعيتى به تعداد كل مسلمين جهان تا آخر روزگار تشكيل مى‏دادند، ضرورت دار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گمراه كنندگانِ امت و تحريف كنندگانِ دين خدا چگونه رو در روى خداى تعالى و پيامبرش ايستادند و مردم را از صراط مستقيم منحرف كر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محور سخن در خطاب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لايت دوازده امام عليهم‏السلام و شئون امامت ايشان اس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يمه اول خطبه مربوط به اصل مطلب يعنى اعلان رسمى ولايت ائمه عليهم‏السلام است. در نيمه دوم پس از فراغت از موضوع اصلى، به توضيح آن پرداخته‏اند. در پايان، نماز و زكات و حج و امر به معروف و نهى از منكر را ياد آور شده‏اند و ارتباط آن را با ولايت بيان فرموده‏ا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آمارى از مطالب خطب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ف . موضوعاتى كه در خطبه مد نظر اس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 . اسماء مباركى كه در خطبه به آنها تصريح شده اس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ج . آيات قرآنى كه در خطبه آمده اس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د . نكات شاخص در خطبه غدير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لف . موضوعاتى كه در خطبه مد نظر است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فات خداوند تعالى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قام پيامبر صلى‏الله‏عليه‏و‏آله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لايت اميرالمؤمنين عليه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لايت ائمه عليهم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ضائل اميرالمؤمنين عليه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رنامه حج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 رسيدن ايام حج، پيامبر صلى‏الله‏عليه‏و‏آله به عرفات و مشعر و منى رفتند، و اعمال حج را با تمام واجبات و مستحبات آن به مردم آموخت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منى پيامبر صلى‏الله‏عليه‏و‏آله دو بار سخنرانى كردند، و زمينه را براى اعلام ولايت اميرالمؤمنين عليه‏السلام آماده فرمو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مچنين آن‏حضرت به امرخداوند، ودايع انبياء عليهم‏السلام را به اميرالمؤمنين عليه‏السلام تحويل دا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00520" y="5851440"/>
            <a:ext cx="15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Tahoma"/>
                <a:cs typeface="Andalus"/>
              </a:rPr>
              <a:t>عل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لف . موضوعاتى كه در خطبه مد نظر است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ضرت مهدى عليه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شيعيان اهل‏بيت عليهم‏السلام و دشمنان ايشان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يعت با امامان عليهم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رآن و تفسير آن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لال و حرام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ar-SA" sz="3500" spc="-1" strike="noStrike" u="sng">
                <a:solidFill>
                  <a:srgbClr val="d9d9ff"/>
                </a:solidFill>
                <a:uFillTx/>
                <a:latin typeface="Arial Black"/>
              </a:rPr>
              <a:t>ب . اسماء مباركى كه در خطبه به آنها تصريح شده است</a:t>
            </a:r>
            <a:r>
              <a:rPr b="1" lang="ar-SA" sz="3500" spc="-1" strike="noStrike">
                <a:solidFill>
                  <a:srgbClr val="d9d9ff"/>
                </a:solidFill>
                <a:latin typeface="Arial Black"/>
              </a:rPr>
              <a:t> </a:t>
            </a:r>
            <a:endParaRPr b="1" lang="en-US" sz="35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ام اميرالمؤمنين عليه‏السلا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رتبه به عنوان «على» عليه‏السلام تصريح ش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مه «ائمه» عليهم‏السلا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رتبه صريحا آم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ام «امام زمان عليه‏السلام »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رتبه به عنوان «مهدى» عليه‏السلام آم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بته اكثر خطبه، درباره اميرالمؤمنين و ائمه عليهم‏السلام است كه به صورت ضمير يا اشاره آم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ج . آيات قرآنى كه در خطبه آمده است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ستشهاد به آيات قرآن در بسيارى از مواضع خطبه از نكات شاخص خطبه است. آياتى كه در خطبه غدير به عنوان شاهد يا تفسير آمده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ورد است، كه اهميت اين سند بزرگ اسلام را جلوه‏گر مى‏نماي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فسير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يه قرآن به اهل بيت عليهم‏السلام و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يه به دشمنان اهل بيت عليهم‏السلام در متن خطبه نيز از نكات بسيار مهم آن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يش از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يه از قرآن نيز در ايام واقعه غدير نازل شده كه آيات (يا أيُّهَا الرَّسُول بَلِّغْ ما أُنْزِلَ إلَيْكَ ... ) و (اَلْيَوْم أكْمَلْتُ لَكُمْ دينَكُم ... )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و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َألَ سَائِلٌ بِعَذابٍ واقِـع ) سه نمونه بارز آن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د . نكات شاخص در خطبه غدير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اهد گرفتن خداوند بر تبليغ خ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اهد گرفتن مردم بر تبليغ خ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أكيد بر امامت دوازده امام عليهم‏السلام بعد از خ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أكيد بر عدم تغيير حلال وحرام و تبيينِ آن توسط اماما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شاره به منافقين و اقداماتِ گذشته و آينده آنان صريحا و تلويح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منبع و مأخذ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لقب " اميرالمؤمنين "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برئيل از طرف خداوند لَقَب «اميرالمؤمنين» را به عنوان اختصاص آن به على بن ابى‏طالب عليه‏السلام آور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علان عمومى براى حضور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ادىِ پيامبر صلى‏الله‏عليه‏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وال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غدير خم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رنامه‏هاى قبل از خطاب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جم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ش از صد و بيست هزار نفر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آماده کردن منبر و برنامه سخنرانی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كيفيت سخنرانى پيامبر صلى‏الله‏عليه‏و‏آل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خنرانىِ تاريخى و آخرين خطابه رسمى خو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و نفر در حال قیام بر فراز منب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ازده بخ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حمدوثنای الهی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اولين بخش سخن، حضرت حمد و ثناى الهى به جا آورده، صفات قدرت و رحمت حق تعالى را ذكر فرمودند، و به بندگى خود در مقابل ذات الهى شهادت 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3:09:46Z</dcterms:created>
  <dc:creator>Hamed</dc:creator>
  <dc:description/>
  <dc:language>en-US</dc:language>
  <cp:lastModifiedBy>Hamed</cp:lastModifiedBy>
  <dcterms:modified xsi:type="dcterms:W3CDTF">2007-11-25T19:13:53Z</dcterms:modified>
  <cp:revision>16</cp:revision>
  <dc:subject/>
  <dc:title>آغاز سفر از مدينه تا غدير</dc:title>
</cp:coreProperties>
</file>