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ali11.wav" ContentType="audio/x-wav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Custom Show 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F55-D4E6-4758-B85C-F318B53E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8BC-B385-42EF-8CEF-3150CF77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DC0-EEFB-4CB9-95D9-9267EA77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E65-AAD1-48FA-8323-1B83BA65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860-C367-4248-B946-DEC1ACDE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599-0A22-457D-A123-132C75DF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75A-CDA4-4688-B779-F1855D74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216-9853-4CA0-ABBF-F2CF535B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0AE-E7C7-4D38-92CB-D5C9A9FD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736-E605-4102-A747-CABEE5F1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3FD-E755-4880-8DDA-11D76E28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CA7-9DA2-411F-B2B7-9EFBADED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D621-A4DF-484D-9767-48088E139647}" type="slidenum">
              <a:rPr b="0" lang="fa-I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li11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8000"/>
                </a:solidFill>
                <a:latin typeface="Arial Unicode MS"/>
                <a:cs typeface="Badr"/>
              </a:rPr>
              <a:t>اَلْحَمْدُ للهِ الَّذي جَعَلَنا مِنَ الْمُتَمَسِّكينَ بولايةِ اميرالمومنينَ و الائمَه المعصومين عليهم السَّلا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976480"/>
            <a:ext cx="82296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Unicode MS"/>
                <a:cs typeface="Badr"/>
              </a:rPr>
              <a:t>اَلْحَمْدُ للهِ الَّذي جَعَلَنا مِنَ الْمُتَمَسِّكينَ بولايةِ اميرالمومنينَ و الائمَه المعصومين عَليهُم السَّلا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579920"/>
            <a:ext cx="82296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Unicode MS"/>
                <a:cs typeface="Nazanin"/>
              </a:rPr>
              <a:t>تمامي سپاسها خداوندي را سزد كه ما را از درآويختگان به رشتة ولايت امير مومنان و امامان پس از او قرار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45964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55000">
    <p:fade/>
    <p:sndAc>
      <p:stSnd>
        <p:snd r:embed="rId3" name="ali1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1">
                                  <p:stCondLst>
                                    <p:cond delay="89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1">
                                  <p:stCondLst>
                                    <p:cond delay="24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49200"/>
            <a:ext cx="5076720" cy="41004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49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1:54:58Z</dcterms:created>
  <dc:creator>mahdi</dc:creator>
  <dc:description/>
  <dc:language>en-US</dc:language>
  <cp:lastModifiedBy>sami</cp:lastModifiedBy>
  <dcterms:modified xsi:type="dcterms:W3CDTF">2005-01-25T09:18:38Z</dcterms:modified>
  <cp:revision>49</cp:revision>
  <dc:subject/>
  <dc:title>اَلْحَمْدُ للهِ الَّذي جَعَلَنا مِنَ الْمُتَمَسِّكينَ بولايةِ اميرالمِومنينَ و الائمَةِ عليهم السَّلام </dc:title>
</cp:coreProperties>
</file>