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CE9-C63E-443F-8B38-79194F47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0DE-43DC-479C-8363-56329FC7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C9C-C978-410F-A625-2400DD2B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3A9-6A74-47A6-BF23-2F257616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5CC-10AD-41DD-9468-B2073AB9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EA1-61C8-457D-8BB4-944835CB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A87-8286-41FF-8660-65ACC332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531-FCB8-40DD-BE20-F12787B9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3AA-F785-4CED-80A2-2167723C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807-E832-4465-8882-57B771F4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C71-AF7B-45BE-ACEE-D507E7F8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8BA-0A34-4B10-83AB-8DFC60D4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9F48-D66D-409C-B9B3-345EB718861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G:/52609.pps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2349360"/>
            <a:ext cx="3961080" cy="2448000"/>
          </a:xfrm>
          <a:prstGeom prst="cloudCallout">
            <a:avLst>
              <a:gd name="adj1" fmla="val -29199"/>
              <a:gd name="adj2" fmla="val 65305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99"/>
                </a:solidFill>
                <a:latin typeface="Arial"/>
                <a:ea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11280" y="4149720"/>
            <a:ext cx="4032360" cy="2708280"/>
          </a:xfrm>
          <a:prstGeom prst="cloudCallout">
            <a:avLst>
              <a:gd name="adj1" fmla="val -42990"/>
              <a:gd name="adj2" fmla="val 4513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076640"/>
            <a:ext cx="3203640" cy="2781360"/>
          </a:xfrm>
          <a:prstGeom prst="cloudCallout">
            <a:avLst>
              <a:gd name="adj1" fmla="val -44152"/>
              <a:gd name="adj2" fmla="val 4737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9966"/>
                </a:solidFill>
                <a:latin typeface="Arial"/>
                <a:ea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5:19:27Z</dcterms:created>
  <dc:creator>Amir Saleh</dc:creator>
  <dc:description/>
  <dc:language>en-US</dc:language>
  <cp:lastModifiedBy>asgarkhani</cp:lastModifiedBy>
  <dcterms:modified xsi:type="dcterms:W3CDTF">2007-11-26T10:00:49Z</dcterms:modified>
  <cp:revision>18</cp:revision>
  <dc:subject/>
  <dc:title>Slide 1</dc:title>
</cp:coreProperties>
</file>