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AC7C-0360-4286-88D5-384CAE18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2492-FED2-4280-BC57-9310C3FF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061C-522F-4EB4-B12D-2BA3BE0D4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B0AE-AF41-4C7D-90DF-236905E5C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1ECB-5778-4552-80EA-3AACA436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4D52-3ABE-44F5-87AA-CCD6811E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0499-7D85-457E-9050-B4A0ECB9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4148-D2DE-450A-A1BF-C34FF598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5674-4368-4E23-B0CF-03941AFC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C8AF-CCAB-4B81-9BF9-CDE4954F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1BB2-CE9C-4809-91DE-BA3C975B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F8EC-B12C-4E91-A516-D666885D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BB0A-862A-4B5A-B0A3-938F8A06D369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G:/82047.pps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2916360" cy="2781360"/>
          </a:xfrm>
          <a:prstGeom prst="cloudCallout">
            <a:avLst>
              <a:gd name="adj1" fmla="val -47875"/>
              <a:gd name="adj2" fmla="val 46291"/>
            </a:avLst>
          </a:prstGeom>
          <a:solidFill>
            <a:srgbClr val="fba3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11280" y="2349360"/>
            <a:ext cx="3961080" cy="2448000"/>
          </a:xfrm>
          <a:prstGeom prst="cloudCallout">
            <a:avLst>
              <a:gd name="adj1" fmla="val -29199"/>
              <a:gd name="adj2" fmla="val 65305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7200" spc="-1" strike="noStrike">
                <a:solidFill>
                  <a:srgbClr val="ffff99"/>
                </a:solidFill>
                <a:latin typeface="Arial"/>
                <a:ea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11280" y="4149720"/>
            <a:ext cx="4032360" cy="2708280"/>
          </a:xfrm>
          <a:prstGeom prst="cloudCallout">
            <a:avLst>
              <a:gd name="adj1" fmla="val -42990"/>
              <a:gd name="adj2" fmla="val 4513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7200" spc="-1" strike="noStrike">
                <a:solidFill>
                  <a:srgbClr val="009999"/>
                </a:solidFill>
                <a:latin typeface="Arial"/>
                <a:ea typeface="Arial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076640"/>
            <a:ext cx="3203640" cy="2781360"/>
          </a:xfrm>
          <a:prstGeom prst="cloudCallout">
            <a:avLst>
              <a:gd name="adj1" fmla="val -44152"/>
              <a:gd name="adj2" fmla="val 4737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7200" spc="-1" strike="noStrike">
                <a:solidFill>
                  <a:srgbClr val="ff9966"/>
                </a:solidFill>
                <a:latin typeface="Arial"/>
                <a:ea typeface="Arial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1T15:19:26Z</dcterms:created>
  <dc:creator>Amir Saleh</dc:creator>
  <dc:description/>
  <dc:language>en-US</dc:language>
  <cp:lastModifiedBy>asgarkhani</cp:lastModifiedBy>
  <dcterms:modified xsi:type="dcterms:W3CDTF">2007-11-26T10:03:32Z</dcterms:modified>
  <cp:revision>13</cp:revision>
  <dc:subject/>
  <dc:title>Slide 1</dc:title>
</cp:coreProperties>
</file>