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9FD-44C9-4BCA-91DC-70E3FF7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860-3010-4A7E-97B0-066F80B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A77-5259-4EA5-984F-D869AA8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884-717F-4931-8C93-5597F9A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A5E-37A5-4B18-90A7-AC2B4D71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5C9-E0A4-4326-929D-378024DA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58D-1416-447B-8AA1-985A1E3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6CD-351E-4E35-AEB6-B0C83C3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0D1-DB2A-4986-9C74-D01990A8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0F7-E891-4FAA-9815-B240F6E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E03-BC08-4EF8-B1B2-2F8411D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5DF-55AA-493D-9A39-FC3E4C2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427-CF3E-46B3-8850-65F19F4EA7F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2984" r="0" b="16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8Z</dcterms:created>
  <dc:creator>Amir Saleh</dc:creator>
  <dc:description/>
  <dc:language>en-US</dc:language>
  <cp:lastModifiedBy>asgarkhani</cp:lastModifiedBy>
  <dcterms:modified xsi:type="dcterms:W3CDTF">2007-11-26T09:57:42Z</dcterms:modified>
  <cp:revision>16</cp:revision>
  <dc:subject/>
  <dc:title>Slide 1</dc:title>
</cp:coreProperties>
</file>