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D96-1478-47FB-9930-F940EDE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8A8-7066-4495-88AA-5BE27C6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C1F-176D-46D6-95DB-FDF57975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321-1B6C-4876-8726-348BF7ED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2B9-BE4E-46CC-8392-22F66FF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FDF-1127-48BB-A940-FA4E0CB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C91-F7F6-4313-B46C-810BEAF4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C39-B4A8-4150-BF45-801B5534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2F5-7E77-486C-A974-6BDA07E9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DA2-68DB-4D0C-B81B-998FF15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CE7-61F3-4BAE-89A2-02E9AF68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D3E-7B12-4DB7-93ED-A25295C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160-37F4-47DC-B14D-66804E3FF41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8Z</dcterms:created>
  <dc:creator>Amir Saleh</dc:creator>
  <dc:description/>
  <dc:language>en-US</dc:language>
  <cp:lastModifiedBy>asgarkhani</cp:lastModifiedBy>
  <dcterms:modified xsi:type="dcterms:W3CDTF">2007-11-26T09:59:07Z</dcterms:modified>
  <cp:revision>15</cp:revision>
  <dc:subject/>
  <dc:title>Slide 1</dc:title>
</cp:coreProperties>
</file>