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86E-E0B6-45E9-88F8-4FD05892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6D7-00FE-4515-BA92-E239795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3ED-FBE0-47B7-B665-948B0166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8DD-9116-4D3D-B5A5-D4CF387E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324-5211-435B-A2DD-5280AC5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C0B-D521-4282-8F9B-F844E8F1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2A3-830B-45BD-8410-61D0323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FE3-5189-4C3E-88EB-447666A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491-C39E-4CA8-9A3B-BBD0377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D5C-B9B2-40EF-B584-E80EB12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5CB-03C2-4CC9-9081-6A1AE23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26B-C9A5-46B0-92B8-15F2A5B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01D0-0E74-4FE6-8741-C26BB5DCD23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:/1750.pp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96000" y="0"/>
            <a:ext cx="3348000" cy="2781360"/>
          </a:xfrm>
          <a:prstGeom prst="cloudCallout">
            <a:avLst>
              <a:gd name="adj1" fmla="val -48481"/>
              <a:gd name="adj2" fmla="val 45717"/>
            </a:avLst>
          </a:prstGeom>
          <a:solidFill>
            <a:srgbClr val="a8c6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916360" cy="2781360"/>
          </a:xfrm>
          <a:prstGeom prst="cloudCallout">
            <a:avLst>
              <a:gd name="adj1" fmla="val -47875"/>
              <a:gd name="adj2" fmla="val 46291"/>
            </a:avLst>
          </a:prstGeom>
          <a:solidFill>
            <a:srgbClr val="fba3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99ffcc"/>
                </a:solidFill>
                <a:latin typeface="Arial"/>
                <a:ea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2349360"/>
            <a:ext cx="3961080" cy="2448000"/>
          </a:xfrm>
          <a:prstGeom prst="cloudCallout">
            <a:avLst>
              <a:gd name="adj1" fmla="val -29199"/>
              <a:gd name="adj2" fmla="val 6530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4365720"/>
            <a:ext cx="3564000" cy="2492280"/>
          </a:xfrm>
          <a:prstGeom prst="cloudCallout">
            <a:avLst>
              <a:gd name="adj1" fmla="val -45236"/>
              <a:gd name="adj2" fmla="val 45796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149720"/>
            <a:ext cx="4032360" cy="2708280"/>
          </a:xfrm>
          <a:prstGeom prst="cloudCallout">
            <a:avLst>
              <a:gd name="adj1" fmla="val -42990"/>
              <a:gd name="adj2" fmla="val 45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9999"/>
                </a:solidFill>
                <a:latin typeface="Arial"/>
                <a:ea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076640"/>
            <a:ext cx="3203640" cy="2781360"/>
          </a:xfrm>
          <a:prstGeom prst="cloudCallout">
            <a:avLst>
              <a:gd name="adj1" fmla="val -44152"/>
              <a:gd name="adj2" fmla="val 473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9966"/>
                </a:solidFill>
                <a:latin typeface="Arial"/>
                <a:ea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5Z</dcterms:created>
  <dc:creator>Amir Saleh</dc:creator>
  <dc:description/>
  <dc:language>en-US</dc:language>
  <cp:lastModifiedBy>asgarkhani</cp:lastModifiedBy>
  <dcterms:modified xsi:type="dcterms:W3CDTF">2007-11-26T10:05:33Z</dcterms:modified>
  <cp:revision>19</cp:revision>
  <dc:subject/>
  <dc:title>Slide 1</dc:title>
</cp:coreProperties>
</file>