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DB78-CD63-4C8B-9B3E-9FDFF0E2C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82A5-6233-4318-A158-BAD70E602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C491-D577-462D-B354-FF3B17BD8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DA89-6D9F-42ED-BC43-082282E02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195E-16CC-437A-98D1-A4EA30D7B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5B3D-4688-47C0-BC40-50C9C88A6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C2DF-7F0F-47BA-8829-77ACE1333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D055-A8BC-4BC6-9D19-4C92C145F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6605-8688-45B1-8CAD-D7FD1C77C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A9B3-78DF-479C-AC1F-0D8AA31FA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FB9E-9DB4-43B6-AAB1-FB31DE3F4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05B7-A647-41B3-8C4D-FB487A720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21FDE-BCC3-4D56-9F91-D5131D833ACF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G:/9.pps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11280" y="2349360"/>
            <a:ext cx="3961080" cy="2448000"/>
          </a:xfrm>
          <a:prstGeom prst="cloudCallout">
            <a:avLst>
              <a:gd name="adj1" fmla="val -29199"/>
              <a:gd name="adj2" fmla="val 65305"/>
            </a:avLst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72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4076640"/>
            <a:ext cx="3203640" cy="2781360"/>
          </a:xfrm>
          <a:prstGeom prst="cloudCallout">
            <a:avLst>
              <a:gd name="adj1" fmla="val -44152"/>
              <a:gd name="adj2" fmla="val 47375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7200" spc="-1" strike="noStrike">
                <a:solidFill>
                  <a:srgbClr val="ff9966"/>
                </a:solidFill>
                <a:latin typeface="Arial"/>
                <a:ea typeface="Arial"/>
              </a:rPr>
              <a:t>9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1T15:19:28Z</dcterms:created>
  <dc:creator>Amir Saleh</dc:creator>
  <dc:description/>
  <dc:language>en-US</dc:language>
  <cp:lastModifiedBy>asgarkhani</cp:lastModifiedBy>
  <dcterms:modified xsi:type="dcterms:W3CDTF">2007-11-26T09:59:35Z</dcterms:modified>
  <cp:revision>14</cp:revision>
  <dc:subject/>
  <dc:title>Slide 1</dc:title>
</cp:coreProperties>
</file>