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FAAA-6E52-45FF-9803-BD7B6DD0B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34B8-D6A8-4556-BE93-A80C29429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7F08-B401-49FE-B5D3-4B35F1467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EBCA-CD66-4A27-A65A-DE064E819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3153-866F-4B63-8289-5B7E86DF3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990B-4CE0-4388-B40C-906C2730C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3B54-52BB-443C-A39D-AC3E9A966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F7E9-14CA-4885-ACB6-14DED7EF6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A3C2-7E0D-4302-82F7-43527D2C1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123F-BEB6-4C1E-9112-0CF1F6CCF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516D-DD6B-4DD1-96E3-BA60C7816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9D77-D114-47EC-8AF4-378F60507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79E3E-507C-4F4E-BAE8-F975D3DCB97E}" type="slidenum"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G:/31531.pps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96000" y="0"/>
            <a:ext cx="3348000" cy="2781360"/>
          </a:xfrm>
          <a:prstGeom prst="cloudCallout">
            <a:avLst>
              <a:gd name="adj1" fmla="val -48481"/>
              <a:gd name="adj2" fmla="val 45717"/>
            </a:avLst>
          </a:prstGeom>
          <a:solidFill>
            <a:srgbClr val="a8c6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72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2"/>
              </a:rPr>
              <a:t>1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2916360" cy="2781360"/>
          </a:xfrm>
          <a:prstGeom prst="cloudCallout">
            <a:avLst>
              <a:gd name="adj1" fmla="val -47875"/>
              <a:gd name="adj2" fmla="val 46291"/>
            </a:avLst>
          </a:prstGeom>
          <a:solidFill>
            <a:srgbClr val="fba3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7200" spc="-1" strike="noStrike">
                <a:solidFill>
                  <a:srgbClr val="99ffcc"/>
                </a:solidFill>
                <a:latin typeface="Arial"/>
                <a:ea typeface="Arial"/>
              </a:rPr>
              <a:t>3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411280" y="2349360"/>
            <a:ext cx="3961080" cy="2448000"/>
          </a:xfrm>
          <a:prstGeom prst="cloudCallout">
            <a:avLst>
              <a:gd name="adj1" fmla="val -29199"/>
              <a:gd name="adj2" fmla="val 65305"/>
            </a:avLst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7200" spc="-1" strike="noStrike">
                <a:solidFill>
                  <a:srgbClr val="ffff99"/>
                </a:solidFill>
                <a:latin typeface="Arial"/>
                <a:ea typeface="Arial"/>
              </a:rPr>
              <a:t>5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11280" y="4149720"/>
            <a:ext cx="4032360" cy="2708280"/>
          </a:xfrm>
          <a:prstGeom prst="cloudCallout">
            <a:avLst>
              <a:gd name="adj1" fmla="val -42990"/>
              <a:gd name="adj2" fmla="val 45134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7200" spc="-1" strike="noStrike">
                <a:solidFill>
                  <a:srgbClr val="009999"/>
                </a:solidFill>
                <a:latin typeface="Arial"/>
                <a:ea typeface="Arial"/>
              </a:rPr>
              <a:t>8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4076640"/>
            <a:ext cx="3203640" cy="2781360"/>
          </a:xfrm>
          <a:prstGeom prst="cloudCallout">
            <a:avLst>
              <a:gd name="adj1" fmla="val -44152"/>
              <a:gd name="adj2" fmla="val 47375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7200" spc="-1" strike="noStrike">
                <a:solidFill>
                  <a:srgbClr val="ff9966"/>
                </a:solidFill>
                <a:latin typeface="Arial"/>
                <a:ea typeface="Arial"/>
              </a:rPr>
              <a:t>9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1T15:19:26Z</dcterms:created>
  <dc:creator>Amir Saleh</dc:creator>
  <dc:description/>
  <dc:language>en-US</dc:language>
  <cp:lastModifiedBy>asgarkhani</cp:lastModifiedBy>
  <dcterms:modified xsi:type="dcterms:W3CDTF">2007-11-26T10:04:44Z</dcterms:modified>
  <cp:revision>11</cp:revision>
  <dc:subject/>
  <dc:title>Slide 1</dc:title>
</cp:coreProperties>
</file>