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956-2E7D-497F-9549-0CD31C07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406-576C-41E6-AA46-4FBE435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DC4-B092-42F2-8C36-D5E148D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D62-D4F3-40B2-A0F7-278A6B9D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97C-7C67-46CD-B103-88BFE106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EEA-0025-47F9-9C0C-C18E78C3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B7B-CA8D-4EB5-BCE3-113B9A1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F2F-2A59-42C6-8631-149EEE6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B13-C86F-4D34-B298-86274749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013-1EEF-4AE5-BD66-0F19D58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C11-14FC-42A9-963B-35C02A0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626-16AA-42D1-B663-79C7FFB6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399-4A41-4469-8F29-FD0913E528C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mosabege%20gadir/abr2/2.pps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5364000" y="-171360"/>
            <a:ext cx="37800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0"/>
            <a:ext cx="3492360" cy="261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627280" y="0"/>
            <a:ext cx="3816360" cy="22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0" y="1916280"/>
            <a:ext cx="3635280" cy="29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2987640" y="1844640"/>
            <a:ext cx="360036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9079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278136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924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436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300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B Dava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5516640"/>
            <a:ext cx="23050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ff"/>
                </a:solidFill>
                <a:latin typeface="Arial"/>
                <a:cs typeface="B Davat"/>
              </a:rPr>
              <a:t>سید رض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Arial"/>
              </a:rPr>
              <a:t>نهج البلاغه توسط کدامیک از دانشمندان جمع آوری شده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55:28Z</dcterms:modified>
  <cp:revision>13</cp:revision>
  <dc:subject/>
  <dc:title>Slide 1</dc:title>
</cp:coreProperties>
</file>