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1B1-539D-4D30-A8CC-A3EDEFC2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03B-180C-47B9-A045-E48E9F7D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E60-2CBC-4E2B-81C1-85AB7B5B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81F-C2F0-434C-A9B6-650B8658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509-75EB-4046-BFBD-3188DD1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D56-A1DA-4E9E-9E41-CF504B9B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899-D775-4D3F-8914-2549EE3E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85B-9E25-4DE8-9CD7-44238C94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9CB-CB4D-40DF-A081-F5878BF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96F-4ADF-48E2-AACF-8F76179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C19-0574-4E94-AC16-4243FB2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456-677A-4F23-8833-37FE5BA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837-6E2F-44CC-B1BC-4E733FCD7B7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mosabege%20gadir/abr2/4.pps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0" y="0"/>
            <a:ext cx="3492360" cy="261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2627280" y="0"/>
            <a:ext cx="3816360" cy="22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0" y="1916280"/>
            <a:ext cx="3635280" cy="29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5796000" y="1844640"/>
            <a:ext cx="3348000" cy="302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9079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765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924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2852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229360"/>
            <a:ext cx="784836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a50021"/>
                </a:solidFill>
                <a:latin typeface="Arial"/>
                <a:cs typeface="B Davat"/>
              </a:rPr>
              <a:t>طبق منابع اسلامی کدام عید بزرگترین عید اسلامی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5805360"/>
            <a:ext cx="151128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Arial"/>
                <a:cs typeface="B Mitra"/>
              </a:rPr>
              <a:t>عید غدی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asgarkhani</cp:lastModifiedBy>
  <dcterms:modified xsi:type="dcterms:W3CDTF">2007-11-26T10:29:14Z</dcterms:modified>
  <cp:revision>17</cp:revision>
  <dc:subject/>
  <dc:title>Slide 1</dc:title>
</cp:coreProperties>
</file>