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ADE-A179-414B-A3A5-989502D2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FFC-A681-42AB-A9D7-13761EFC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663-0770-4B1C-923B-0CC54F3A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E8F-A1DC-4E39-8A4E-54EC9485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13E-1F53-420D-92B3-25C8DCDD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077-2D21-4D91-BB78-7C0396C1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1B1-5EC8-488C-90CB-83BCB27B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BFD-E68F-4310-9241-D82836AB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8B4-89B4-4267-9525-12472CD3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548-B2D0-4A69-97AE-07D0FED6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0BF-535A-48CC-97F0-EA9AAAE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340-0670-448C-8190-BF8F0BA5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3DC8-5FA2-439D-BFB6-1314AA56AFC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../../mosabege%20gadir/abr2/6.pps" TargetMode="External"/><Relationship Id="rId3" Type="http://schemas.openxmlformats.org/officeDocument/2006/relationships/hyperlink" Target="file:///../../../mosabege%20gadir/abr2/6.pps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2627280" y="0"/>
            <a:ext cx="3816360" cy="2276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5796000" y="1844640"/>
            <a:ext cx="3348000" cy="302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765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2</a:t>
            </a:r>
            <a:r>
              <a:rPr b="0" lang="fa-IR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4360" y="285264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280" y="5154480"/>
            <a:ext cx="8964720" cy="106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50021"/>
                </a:solidFill>
                <a:latin typeface="Arial"/>
                <a:cs typeface="B Davat"/>
              </a:rPr>
              <a:t>آیا در روزغدیر زنان نیز با امیرالمومنین </a:t>
            </a:r>
            <a:r>
              <a:rPr b="1" lang="fa-IR" sz="2400" spc="-1" strike="noStrike">
                <a:solidFill>
                  <a:srgbClr val="a50021"/>
                </a:solidFill>
                <a:latin typeface="Arial"/>
                <a:ea typeface="B Davat"/>
              </a:rPr>
              <a:t>(علیه السلام)</a:t>
            </a:r>
            <a:r>
              <a:rPr b="0" lang="fa-IR" sz="3200" spc="-1" strike="noStrike">
                <a:solidFill>
                  <a:srgbClr val="a50021"/>
                </a:solidFill>
                <a:latin typeface="Arial"/>
                <a:ea typeface="B Davat"/>
              </a:rPr>
              <a:t> بیعت کرد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9440" y="5734080"/>
            <a:ext cx="885528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333399"/>
                </a:solidFill>
                <a:latin typeface="Arial"/>
                <a:cs typeface="B Davat"/>
              </a:rPr>
              <a:t>بله ، با ظرف آب با ایشان بیعت کرد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05Z</dcterms:created>
  <dc:creator>Amir Saleh</dc:creator>
  <dc:description/>
  <dc:language>en-US</dc:language>
  <cp:lastModifiedBy>asgarkhani</cp:lastModifiedBy>
  <dcterms:modified xsi:type="dcterms:W3CDTF">2007-11-26T10:31:57Z</dcterms:modified>
  <cp:revision>17</cp:revision>
  <dc:subject/>
  <dc:title>Slide 1</dc:title>
</cp:coreProperties>
</file>