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1A8-AB65-4EFE-AE3E-EB7B8ACF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C1D-48B5-4489-B1B8-A219BF79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884-7CAE-4A06-9322-7FE02818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5CB8-37AC-4D87-92DC-BC5C467E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701D-50B0-4BBF-AE62-DBE5A669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82D0-76AF-425F-BED9-62C148C8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B91-3CC3-40BF-9389-7FFE2582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529-ACBD-43F6-9259-D4E1D5C4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B60-63AF-4B99-B082-1ECF3A05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E98-03FA-477D-A432-D6C8AFF1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114-11D2-47EA-89CB-1D9A20BA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C0C-3C0D-42B1-A4B7-FD30E6DC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CF35-A8EF-4153-86FA-4CD8A282B31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file:///../../../mosabege%20gadir/abr2/7.pps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280" y="4869000"/>
            <a:ext cx="896472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a50021"/>
                </a:solidFill>
                <a:latin typeface="Arial"/>
                <a:cs typeface="B Davat"/>
              </a:rPr>
              <a:t>مراسم بیعت کردن با حضرت علی </a:t>
            </a:r>
            <a:r>
              <a:rPr b="1" lang="fa-IR" sz="2000" spc="-1" strike="noStrike">
                <a:solidFill>
                  <a:srgbClr val="a50021"/>
                </a:solidFill>
                <a:latin typeface="Arial"/>
                <a:ea typeface="B Davat"/>
              </a:rPr>
              <a:t>(علیه السلام)</a:t>
            </a:r>
            <a:r>
              <a:rPr b="0" lang="fa-IR" sz="3200" spc="-1" strike="noStrike">
                <a:solidFill>
                  <a:srgbClr val="a50021"/>
                </a:solidFill>
                <a:latin typeface="Arial"/>
                <a:ea typeface="B Davat"/>
              </a:rPr>
              <a:t> در وادی غدیرخم چند روز به طول انجامی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280" y="5877000"/>
            <a:ext cx="896472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3399"/>
                </a:solidFill>
                <a:latin typeface="Arial"/>
                <a:cs typeface="B Davat"/>
              </a:rPr>
              <a:t>سه رو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5796000" y="1844640"/>
            <a:ext cx="3348000" cy="3024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3080" y="285264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5:19:05Z</dcterms:created>
  <dc:creator>Amir Saleh</dc:creator>
  <dc:description/>
  <dc:language>en-US</dc:language>
  <cp:lastModifiedBy>asgarkhani</cp:lastModifiedBy>
  <dcterms:modified xsi:type="dcterms:W3CDTF">2007-11-26T10:20:54Z</dcterms:modified>
  <cp:revision>17</cp:revision>
  <dc:subject/>
  <dc:title>Slide 1</dc:title>
</cp:coreProperties>
</file>