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C15-2A02-422B-945A-CFD2B3EB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B1EA-AEFF-40DC-A16F-B58E72D3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9229-05F4-4CE7-80A8-AA2F8169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5FF-9118-44C1-A98A-6CE83063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1B1-57E5-407F-9E38-69205984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B3D-A55A-462C-919A-60A98372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A5E-0C10-44C1-8A01-A9E78355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3F3-6C12-4897-9C52-7EDC7787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358-3B22-4950-A334-1D07AD6A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E37-B772-4E5D-AA19-08CE0E92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119-FC3B-46AC-841E-75483CB5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F5D5-36A9-4CDE-97D1-49D9DB05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BCDA-41F0-4AE7-AC05-3B1F2DEB6A3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../../mosabege%20gadir/abr2/5.pps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loud"/>
          <p:cNvSpPr/>
          <p:nvPr/>
        </p:nvSpPr>
        <p:spPr>
          <a:xfrm>
            <a:off x="2627280" y="0"/>
            <a:ext cx="3816360" cy="2276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"/>
          <p:cNvSpPr/>
          <p:nvPr/>
        </p:nvSpPr>
        <p:spPr>
          <a:xfrm>
            <a:off x="0" y="1916280"/>
            <a:ext cx="3635280" cy="295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"/>
          <p:cNvSpPr/>
          <p:nvPr/>
        </p:nvSpPr>
        <p:spPr>
          <a:xfrm>
            <a:off x="5796000" y="1844640"/>
            <a:ext cx="3348000" cy="3024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67280" y="76500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a50021"/>
                </a:solidFill>
                <a:latin typeface="Arial"/>
                <a:ea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2924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64360" y="285264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a50021"/>
                </a:solidFill>
                <a:latin typeface="Arial"/>
                <a:ea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5877000"/>
            <a:ext cx="349092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3399"/>
                </a:solidFill>
                <a:latin typeface="Arial"/>
                <a:ea typeface="B Davat"/>
              </a:rPr>
              <a:t>18 </a:t>
            </a:r>
            <a:r>
              <a:rPr b="1" lang="fa-IR" sz="2800" spc="-1" strike="noStrike">
                <a:solidFill>
                  <a:srgbClr val="333399"/>
                </a:solidFill>
                <a:latin typeface="Arial"/>
                <a:cs typeface="B Davat"/>
              </a:rPr>
              <a:t>ذی الحجه </a:t>
            </a:r>
            <a:r>
              <a:rPr b="1" lang="fa-IR" sz="2800" spc="-1" strike="noStrike">
                <a:solidFill>
                  <a:srgbClr val="333399"/>
                </a:solidFill>
                <a:latin typeface="Arial"/>
                <a:ea typeface="B Davat"/>
              </a:rPr>
              <a:t>10</a:t>
            </a:r>
            <a:r>
              <a:rPr b="1" lang="fa-IR" sz="2800" spc="-1" strike="noStrike">
                <a:solidFill>
                  <a:srgbClr val="333399"/>
                </a:solidFill>
                <a:latin typeface="Arial"/>
                <a:ea typeface="B Davat"/>
              </a:rPr>
              <a:t> هجر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5300640"/>
            <a:ext cx="5867280" cy="58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a50021"/>
                </a:solidFill>
                <a:latin typeface="Arial"/>
                <a:cs typeface="Arial"/>
              </a:rPr>
              <a:t>واقعه غدیر در چه تاریخی رخ دا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1T15:19:05Z</dcterms:created>
  <dc:creator>Amir Saleh</dc:creator>
  <dc:description/>
  <dc:language>en-US</dc:language>
  <cp:lastModifiedBy>reza</cp:lastModifiedBy>
  <dcterms:modified xsi:type="dcterms:W3CDTF">2007-11-28T09:01:26Z</dcterms:modified>
  <cp:revision>16</cp:revision>
  <dc:subject/>
  <dc:title>Slide 1</dc:title>
</cp:coreProperties>
</file>