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BF4-F4EB-40E8-B477-500B83FD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176-FD9D-4901-9B95-416CCE4B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C751-3D44-4AD2-8DF2-4092D090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4188-C11F-466A-A18D-656BA600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8593-D50C-416B-B714-D0479C17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5B57-6053-4A46-8DB0-9269CC62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EF6E-2791-4FB3-A51E-380E4D0A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1EAF-BFD7-4C89-ADDC-43FAED1A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E6AE-F0B7-45F4-837A-BAB6173E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DC72-3766-4329-BF5F-72F77F1B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4E0-9ADE-44E2-9926-168F9B1D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08E0-C73D-4A45-BE14-663270C4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9905-EF7C-4003-8719-DAD9E918AF75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../../mosabege%20gadir/abr2/3.pps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loud"/>
          <p:cNvSpPr/>
          <p:nvPr/>
        </p:nvSpPr>
        <p:spPr>
          <a:xfrm>
            <a:off x="5364000" y="-171360"/>
            <a:ext cx="3780000" cy="257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loud"/>
          <p:cNvSpPr/>
          <p:nvPr/>
        </p:nvSpPr>
        <p:spPr>
          <a:xfrm>
            <a:off x="0" y="0"/>
            <a:ext cx="3492360" cy="2619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loud"/>
          <p:cNvSpPr/>
          <p:nvPr/>
        </p:nvSpPr>
        <p:spPr>
          <a:xfrm>
            <a:off x="2627280" y="0"/>
            <a:ext cx="3816360" cy="2276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0" y="1916280"/>
            <a:ext cx="3635280" cy="295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loud"/>
          <p:cNvSpPr/>
          <p:nvPr/>
        </p:nvSpPr>
        <p:spPr>
          <a:xfrm>
            <a:off x="5796000" y="1844640"/>
            <a:ext cx="3348000" cy="3024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90792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a50021"/>
                </a:solidFill>
                <a:latin typeface="Arial"/>
                <a:ea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67280" y="76500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a50021"/>
                </a:solidFill>
                <a:latin typeface="Arial"/>
                <a:ea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948360" y="62064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29242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a50021"/>
                </a:solidFill>
                <a:latin typeface="Arial"/>
                <a:ea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4360" y="285264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a50021"/>
                </a:solidFill>
                <a:latin typeface="Arial"/>
                <a:ea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5084640"/>
            <a:ext cx="7417080" cy="70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a50021"/>
                </a:solidFill>
                <a:latin typeface="Arial"/>
                <a:cs typeface="B Davat"/>
              </a:rPr>
              <a:t>غدیر به چه معناست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5734080"/>
            <a:ext cx="7417080" cy="703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333399"/>
                </a:solidFill>
                <a:latin typeface="Arial"/>
                <a:cs typeface="B Davat"/>
              </a:rPr>
              <a:t>آبگی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1T15:19:05Z</dcterms:created>
  <dc:creator>Amir Saleh</dc:creator>
  <dc:description/>
  <dc:language>en-US</dc:language>
  <cp:lastModifiedBy>asgarkhani</cp:lastModifiedBy>
  <dcterms:modified xsi:type="dcterms:W3CDTF">2007-11-26T10:50:03Z</dcterms:modified>
  <cp:revision>15</cp:revision>
  <dc:subject/>
  <dc:title>Slide 1</dc:title>
</cp:coreProperties>
</file>