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FEEA-269C-418F-A27A-76C921FC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614A-41D7-4553-96E8-86F27FF8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CBD0-F6B8-4507-8556-EF61477A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14C1-46D5-4676-86CB-C44D8E49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5AF8-96A6-4F17-B994-7ADAEB0B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35A9-EEA2-45E0-A433-4C42797A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8872-F203-4394-AC6B-6EFA8333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3923-1DEE-4BC9-96B0-7FCEB5BA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745E-3685-4554-82FD-F19FE934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53B1-85B8-4855-8A72-A54FF911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7F52-EC80-4935-AB10-D5A53876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D122-7339-4D28-9FD8-480DF753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3EE6-8334-48E4-98FC-C41FE13AD40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81080" y="5950080"/>
            <a:ext cx="8964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a50021"/>
                </a:solidFill>
                <a:latin typeface="Arial"/>
                <a:cs typeface="B Davat"/>
              </a:rPr>
              <a:t>حرم امام حسین</a:t>
            </a:r>
            <a:r>
              <a:rPr b="1" lang="fa-IR" sz="1800" spc="-1" strike="noStrike">
                <a:solidFill>
                  <a:srgbClr val="a50021"/>
                </a:solidFill>
                <a:latin typeface="Arial"/>
                <a:ea typeface="Arial"/>
              </a:rPr>
              <a:t>(علیه السلام) </a:t>
            </a:r>
            <a:r>
              <a:rPr b="0" lang="fa-IR" sz="3600" spc="-1" strike="noStrike">
                <a:solidFill>
                  <a:srgbClr val="a50021"/>
                </a:solidFill>
                <a:latin typeface="Arial"/>
                <a:ea typeface="B Davat"/>
              </a:rPr>
              <a:t>. حرم حضرت عباس </a:t>
            </a:r>
            <a:r>
              <a:rPr b="1" lang="fa-IR" sz="2000" spc="-1" strike="noStrike">
                <a:solidFill>
                  <a:srgbClr val="a50021"/>
                </a:solidFill>
                <a:latin typeface="Arial"/>
                <a:ea typeface="B Davat"/>
              </a:rPr>
              <a:t>(علیه السلا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1T15:19:05Z</dcterms:created>
  <dc:creator>Amir Saleh</dc:creator>
  <dc:description/>
  <dc:language>en-US</dc:language>
  <cp:lastModifiedBy>asgarkhani</cp:lastModifiedBy>
  <dcterms:modified xsi:type="dcterms:W3CDTF">2007-11-26T10:12:43Z</dcterms:modified>
  <cp:revision>17</cp:revision>
  <dc:subject/>
  <dc:title>Slide 1</dc:title>
</cp:coreProperties>
</file>