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203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007-AB85-45EF-AA9B-1F53C3FC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79E-1CE9-47CB-B22E-D97AC6FD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A1F-CF0D-4B43-859F-B86A339F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3E4-00CA-4EB5-BE11-E99D6F50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C2D-5731-423E-A57C-FE27DB80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D1E-FB7C-495E-AAFF-89D73076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836-A412-44E3-817F-C3DCDDAC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C1E-9F09-4F47-985A-704900D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A74-3CC7-48C8-89C4-3266BB3C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788-3F9E-4DC0-9DD3-5FC2CBAA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39E-72D1-446A-A398-F2528C9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71F-5BE2-42D7-BCCF-EDF9728B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7C0D-4CC5-4484-8E10-3F9AF229A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203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esk1"/>
          <p:cNvSpPr/>
          <p:nvPr/>
        </p:nvSpPr>
        <p:spPr>
          <a:xfrm>
            <a:off x="3851280" y="246240"/>
            <a:ext cx="144144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93800" y="1546200"/>
          <a:ext cx="7561080" cy="3251160"/>
        </p:xfrm>
        <a:graphic>
          <a:graphicData uri="http://schemas.openxmlformats.org/drawingml/2006/table">
            <a:tbl>
              <a:tblPr/>
              <a:tblGrid>
                <a:gridCol w="1512360"/>
                <a:gridCol w="1511640"/>
                <a:gridCol w="1512720"/>
                <a:gridCol w="1511280"/>
                <a:gridCol w="1513080"/>
              </a:tblGrid>
              <a:tr h="162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2" action="ppaction://hlinksldjump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3" action="ppaction://hlinksldjump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4" action="ppaction://hlinksldjump"/>
                        </a:rPr>
                        <a:t>4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5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16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5" action="ppaction://hlinksldjump"/>
                        </a:rPr>
                        <a:t>6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6" action="ppaction://hlinksldjump"/>
                        </a:rPr>
                        <a:t>7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8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9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10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908000" y="127080"/>
            <a:ext cx="525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  <a:cs typeface="Titr"/>
              </a:rPr>
              <a:t>مسابقه</a:t>
            </a:r>
            <a:r>
              <a:rPr b="1" lang="ar-SA" sz="5000" spc="-1" strike="noStrike">
                <a:solidFill>
                  <a:srgbClr val="507cff"/>
                </a:solidFill>
                <a:latin typeface="Arial"/>
                <a:ea typeface="Titr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5950080"/>
            <a:ext cx="281016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cs typeface="Nazanin"/>
                <a:hlinkClick r:id="rId7" action="ppaction://hlinksldjump"/>
              </a:rPr>
              <a:t>رمز1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ea typeface="Nazanin"/>
              </a:rPr>
              <a:t>         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cs typeface="Nazanin"/>
                <a:hlinkClick r:id="rId8" action="ppaction://hlinksldjump"/>
              </a:rPr>
              <a:t>رمز مسابق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1840" y="1413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200" spc="-1" strike="noStrike">
                <a:solidFill>
                  <a:srgbClr val="ff9900"/>
                </a:solidFill>
                <a:latin typeface="Arial"/>
                <a:cs typeface="Titr"/>
              </a:rPr>
              <a:t>راهنماست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2925720"/>
            <a:ext cx="129564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ام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3280" y="2925720"/>
            <a:ext cx="136836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دل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925720"/>
            <a:ext cx="107964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2925720"/>
            <a:ext cx="223200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راهنما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0920" y="2925720"/>
            <a:ext cx="86544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ب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6560" y="2925720"/>
            <a:ext cx="158436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هدا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1640" y="2925720"/>
            <a:ext cx="129708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IPT.Jadid"/>
                <a:cs typeface="IPT.Jadid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3280" y="2925720"/>
            <a:ext cx="136836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2925720"/>
            <a:ext cx="93492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4560" y="2925720"/>
            <a:ext cx="223200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2925720"/>
            <a:ext cx="86220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6560" y="2925720"/>
            <a:ext cx="158436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esk1"/>
          <p:cNvSpPr/>
          <p:nvPr/>
        </p:nvSpPr>
        <p:spPr>
          <a:xfrm>
            <a:off x="3492360" y="390600"/>
            <a:ext cx="2016360" cy="66204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رمز جد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5229360"/>
            <a:ext cx="36007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tr"/>
              </a:rPr>
              <a:t>امام رضا عليه السل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3" name="203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1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66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527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0000"/>
                </a:solidFill>
                <a:latin typeface="Arial"/>
                <a:cs typeface="Titr"/>
              </a:rPr>
              <a:t>پوچ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527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0000"/>
                </a:solidFill>
                <a:latin typeface="Arial"/>
                <a:cs typeface="Titr"/>
              </a:rPr>
              <a:t>پوچ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527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0000"/>
                </a:solidFill>
                <a:latin typeface="Arial"/>
                <a:cs typeface="Titr"/>
              </a:rPr>
              <a:t>پوچ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1840" y="1413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9900"/>
                </a:solidFill>
                <a:latin typeface="Arial"/>
                <a:cs typeface="Titr"/>
              </a:rPr>
              <a:t>امـام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esk1"/>
          <p:cNvSpPr/>
          <p:nvPr/>
        </p:nvSpPr>
        <p:spPr>
          <a:xfrm>
            <a:off x="3492360" y="318960"/>
            <a:ext cx="2016360" cy="66204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1840" y="1413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9900"/>
                </a:solidFill>
                <a:latin typeface="Arial"/>
                <a:cs typeface="Titr"/>
              </a:rPr>
              <a:t>دليل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1840" y="14367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200" spc="-1" strike="noStrike">
                <a:solidFill>
                  <a:srgbClr val="ff9900"/>
                </a:solidFill>
                <a:latin typeface="Arial"/>
                <a:cs typeface="Titr"/>
              </a:rPr>
              <a:t>هدايت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700" spc="-1" strike="noStrike">
                <a:solidFill>
                  <a:srgbClr val="ff9900"/>
                </a:solidFill>
                <a:latin typeface="Arial"/>
                <a:cs typeface="Titr"/>
              </a:rPr>
              <a:t>و</a:t>
            </a:r>
            <a:endParaRPr b="0" lang="en-US" sz="2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84280"/>
            <a:ext cx="8497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9900"/>
                </a:solidFill>
                <a:latin typeface="Arial"/>
                <a:cs typeface="Titr"/>
              </a:rPr>
              <a:t>بر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5:13:07Z</dcterms:created>
  <dc:creator>farhad</dc:creator>
  <dc:description/>
  <dc:language>en-US</dc:language>
  <cp:lastModifiedBy>sami</cp:lastModifiedBy>
  <dcterms:modified xsi:type="dcterms:W3CDTF">2005-01-25T05:32:49Z</dcterms:modified>
  <cp:revision>87</cp:revision>
  <dc:subject/>
  <dc:title>Slide 1</dc:title>
</cp:coreProperties>
</file>